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DED3-F240-4640-BE8E-C8FAE187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6F84-1872-4B60-A76B-94EBBDEA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B38-8E3A-4433-8EF7-C3E24233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65A6-09B2-4ED4-A406-37470A79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BADE-C696-45A2-BEB7-467B5BCE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94D4-6935-4E51-97FF-61DEB90E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E6AA-653E-40FA-9CB8-91EC3247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C8B4-7764-450A-A62F-B5B37BB3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7FE0-A49B-484E-BA1E-0328BC49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B4C9-83DA-4CD9-B78A-7ED5D364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299D-08DC-4990-8B6D-B362619F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91C2-72E9-4CF7-B501-B124359F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85BE-B72F-4204-BCF2-21097E26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E95E-956F-4E64-967B-0CDCE9D3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5F62-A03C-4CBF-8BE2-DEB02FB4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119C-E49A-4BB8-B929-919F8254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FDD2-7707-44DD-A80A-42E9AB2F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7F9-EB23-47D4-9CCD-E4D29DD8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122-E0A5-4D3F-BABA-7188FC1A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699-0A9D-4A6D-8E05-58C0B490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2A2-ECB8-4036-928F-D9FBB31F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736-FC44-4428-A4D4-F7647805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5182-A843-4BAF-8FC9-8D6D2274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0C3-B778-44FC-B9D4-76F28D31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640A-5813-4C78-B6A9-D5CBCB99F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45BF-32C2-41A6-A7F8-3DE759038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layer.discoveryeducation.com/index.cfm?guidAssetId=3BEC8E51-6DD6-480B-8CBB-57D477C6A1C3&amp;bInFromSearch=1&amp;productcode=US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teachertube.com/viewVideo/php?video_id=111851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" Target="slide7.xml"/><Relationship Id="rId6" Type="http://schemas.openxmlformats.org/officeDocument/2006/relationships/image" Target="../media/image5.jpeg"/><Relationship Id="rId7" Type="http://schemas.openxmlformats.org/officeDocument/2006/relationships/slide" Target="slide11.xml"/><Relationship Id="rId8" Type="http://schemas.openxmlformats.org/officeDocument/2006/relationships/image" Target="../media/image6.jpeg"/><Relationship Id="rId9" Type="http://schemas.openxmlformats.org/officeDocument/2006/relationships/slide" Target="slide10.xml"/><Relationship Id="rId10" Type="http://schemas.openxmlformats.org/officeDocument/2006/relationships/image" Target="../media/image7.jpeg"/><Relationship Id="rId11" Type="http://schemas.openxmlformats.org/officeDocument/2006/relationships/slide" Target="slide9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8.xml"/><Relationship Id="rId16" Type="http://schemas.openxmlformats.org/officeDocument/2006/relationships/slide" Target="slide14.xml"/><Relationship Id="rId17" Type="http://schemas.openxmlformats.org/officeDocument/2006/relationships/image" Target="../media/image10.jpeg"/><Relationship Id="rId18" Type="http://schemas.openxmlformats.org/officeDocument/2006/relationships/slide" Target="slide15.xml"/><Relationship Id="rId19" Type="http://schemas.openxmlformats.org/officeDocument/2006/relationships/image" Target="../media/image11.jpeg"/><Relationship Id="rId2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dustrial Americ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ical Advancements and the Road to Greed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3520" y="5562720"/>
            <a:ext cx="861048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Click to see video on Industrialization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omas A. Edis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ght Bulb (1879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ture of Electric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= J.P. Morg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dison Electric Light Compan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Edison with light bulb, 1912"/>
          <p:cNvPicPr/>
          <p:nvPr/>
        </p:nvPicPr>
        <p:blipFill>
          <a:blip r:embed="rId1"/>
          <a:stretch/>
        </p:blipFill>
        <p:spPr>
          <a:xfrm>
            <a:off x="4813200" y="1752480"/>
            <a:ext cx="3429000" cy="4267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>
            <a:hlinkClick r:id="rId2" action="ppaction://hlinksldjump"/>
          </p:cNvPr>
          <p:cNvSpPr/>
          <p:nvPr/>
        </p:nvSpPr>
        <p:spPr>
          <a:xfrm>
            <a:off x="5334120" y="6248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Back to Money 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stavus Swif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90760" y="1752480"/>
            <a:ext cx="4376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87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wift &amp; Company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frigerated Railroad C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t packing indust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Gustavus Swift&#10;&#10;&#10;[Credits : Courtesy of Swift &amp; Company, Chicago]"/>
          <p:cNvPicPr/>
          <p:nvPr/>
        </p:nvPicPr>
        <p:blipFill>
          <a:blip r:embed="rId1"/>
          <a:stretch/>
        </p:blipFill>
        <p:spPr>
          <a:xfrm>
            <a:off x="1143000" y="1828800"/>
            <a:ext cx="3344760" cy="4133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>
            <a:hlinkClick r:id="rId2" action="ppaction://hlinksldjump"/>
          </p:cNvPr>
          <p:cNvSpPr/>
          <p:nvPr/>
        </p:nvSpPr>
        <p:spPr>
          <a:xfrm>
            <a:off x="1371600" y="6248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Back to Money 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ood Guy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it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486400" y="5181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See the other sid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6" descr="john%20d%20rockefeller-1"/>
          <p:cNvPicPr/>
          <p:nvPr/>
        </p:nvPicPr>
        <p:blipFill>
          <a:blip r:embed="rId1"/>
          <a:stretch/>
        </p:blipFill>
        <p:spPr>
          <a:xfrm>
            <a:off x="1219320" y="3200400"/>
            <a:ext cx="2133360" cy="3238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CarnegieLibrary-1914-1b"/>
          <p:cNvPicPr/>
          <p:nvPr/>
        </p:nvPicPr>
        <p:blipFill>
          <a:blip r:embed="rId2"/>
          <a:stretch/>
        </p:blipFill>
        <p:spPr>
          <a:xfrm>
            <a:off x="4419720" y="2057400"/>
            <a:ext cx="3995640" cy="28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d Guy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54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or Working Conditions for employ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vish Lifestyles for themsel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876920" y="6248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See the other sid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6" descr="chocolate"/>
          <p:cNvPicPr/>
          <p:nvPr/>
        </p:nvPicPr>
        <p:blipFill>
          <a:blip r:embed="rId1"/>
          <a:stretch/>
        </p:blipFill>
        <p:spPr>
          <a:xfrm>
            <a:off x="1371600" y="3657600"/>
            <a:ext cx="2857680" cy="2819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Moorish_smoking_room_650"/>
          <p:cNvPicPr/>
          <p:nvPr/>
        </p:nvPicPr>
        <p:blipFill>
          <a:blip r:embed="rId2"/>
          <a:stretch/>
        </p:blipFill>
        <p:spPr>
          <a:xfrm>
            <a:off x="4952880" y="2286000"/>
            <a:ext cx="284004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nry For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614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d Automobi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l-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ving Assembly Li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4" descr="Ford%2520Assembly%2520line"/>
          <p:cNvPicPr/>
          <p:nvPr/>
        </p:nvPicPr>
        <p:blipFill>
          <a:blip r:embed="rId1"/>
          <a:stretch/>
        </p:blipFill>
        <p:spPr>
          <a:xfrm>
            <a:off x="4572000" y="2286000"/>
            <a:ext cx="3962520" cy="3405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model-t1"/>
          <p:cNvPicPr/>
          <p:nvPr/>
        </p:nvPicPr>
        <p:blipFill>
          <a:blip r:embed="rId2"/>
          <a:stretch/>
        </p:blipFill>
        <p:spPr>
          <a:xfrm>
            <a:off x="685800" y="3886200"/>
            <a:ext cx="3705120" cy="2562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541008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Back to Money 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6400800" y="2286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Verdana"/>
              </a:rPr>
              <a:t>Want to know more about Henry Ford? Click HER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nry Bessem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6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Bessemer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rns iron into ste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nce to industrial growth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5" descr="220px-Henry_Bessemer"/>
          <p:cNvPicPr/>
          <p:nvPr/>
        </p:nvPicPr>
        <p:blipFill>
          <a:blip r:embed="rId1"/>
          <a:stretch/>
        </p:blipFill>
        <p:spPr>
          <a:xfrm>
            <a:off x="457200" y="4648320"/>
            <a:ext cx="1763640" cy="2028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General"/>
          <p:cNvPicPr/>
          <p:nvPr/>
        </p:nvPicPr>
        <p:blipFill>
          <a:blip r:embed="rId2"/>
          <a:stretch/>
        </p:blipFill>
        <p:spPr>
          <a:xfrm>
            <a:off x="4267080" y="1828800"/>
            <a:ext cx="4133880" cy="3876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2514600" y="6248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Back to Money 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 Summary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y is it important to identify bia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pieces of evidence do you think a historian would use if he viewed the early industrial moguls as Captains of Industry?  What about Robber Barons?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w did this all start!?!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llowing the Civil War, railroads allowed for expansion west.  Big railroad companies started buying smaller ones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5" descr="railroad_mainline"/>
          <p:cNvPicPr/>
          <p:nvPr/>
        </p:nvPicPr>
        <p:blipFill>
          <a:blip r:embed="rId1"/>
          <a:stretch/>
        </p:blipFill>
        <p:spPr>
          <a:xfrm>
            <a:off x="3886200" y="3429000"/>
            <a:ext cx="4933800" cy="3270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>
            <a:hlinkClick r:id="rId2"/>
          </p:cNvPr>
          <p:cNvSpPr/>
          <p:nvPr/>
        </p:nvSpPr>
        <p:spPr>
          <a:xfrm>
            <a:off x="0" y="4038480"/>
            <a:ext cx="3886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Verdana"/>
              </a:rPr>
              <a:t>Click here to listen to a podcast on Big Business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aptains of Industry or Robber Barons?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vanderbiltsm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2743200"/>
            <a:ext cx="1774800" cy="2209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ndrew_carnegiesm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057400" y="4410000"/>
            <a:ext cx="156528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jpmorgansm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33920" y="3352680"/>
            <a:ext cx="147780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john_rockefellersm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934320" y="3581280"/>
            <a:ext cx="194940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Edison with light bulb, 191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010280" y="990720"/>
            <a:ext cx="1898640" cy="236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image00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04920" y="5143680"/>
            <a:ext cx="153036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null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2057400" y="2514600"/>
            <a:ext cx="1407960" cy="1600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5">
            <a:hlinkClick r:id="rId15" action="ppaction://hlinksldjump"/>
          </p:cNvPr>
          <p:cNvSpPr/>
          <p:nvPr/>
        </p:nvSpPr>
        <p:spPr>
          <a:xfrm>
            <a:off x="6781680" y="58672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Verdana"/>
              </a:rPr>
              <a:t>Done exploring the Money Me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7" descr="USAfordH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381640" y="2819520"/>
            <a:ext cx="1324080" cy="1628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henry-bessemer-3-sized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5334120" y="4724280"/>
            <a:ext cx="1400040" cy="18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rnelius Vanderbil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5834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nderbilt started buying out smaller railroad compan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ught up most of the track headed out w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company would refuse to sell to him, he would refuse to let passengers from their trains use his trains to head out west – took away all their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cornelius_vanderbilt"/>
          <p:cNvPicPr/>
          <p:nvPr/>
        </p:nvPicPr>
        <p:blipFill>
          <a:blip r:embed="rId1"/>
          <a:stretch/>
        </p:blipFill>
        <p:spPr>
          <a:xfrm>
            <a:off x="6400800" y="21337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>
            <a:hlinkClick r:id="rId2" action="ppaction://hlinksldjump"/>
          </p:cNvPr>
          <p:cNvSpPr/>
          <p:nvPr/>
        </p:nvSpPr>
        <p:spPr>
          <a:xfrm>
            <a:off x="5943600" y="5638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Back to Money 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68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68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998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drew Carneg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0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ld STEEL – necessary to make a railroad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ed buying steel mines, and railroad compan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ling all aspects of production from top to bottom is called vertical integration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andrew%20carnegie"/>
          <p:cNvPicPr/>
          <p:nvPr/>
        </p:nvPicPr>
        <p:blipFill>
          <a:blip r:embed="rId1"/>
          <a:stretch/>
        </p:blipFill>
        <p:spPr>
          <a:xfrm>
            <a:off x="5638680" y="1752480"/>
            <a:ext cx="2776680" cy="3810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>
            <a:hlinkClick r:id="rId2" action="ppaction://hlinksldjump"/>
          </p:cNvPr>
          <p:cNvSpPr/>
          <p:nvPr/>
        </p:nvSpPr>
        <p:spPr>
          <a:xfrm>
            <a:off x="5638680" y="5638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Back to Money 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.P. Morga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33560" y="1752120"/>
            <a:ext cx="483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gan gaining power in banking industry when he began reorganizing railroa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s involved in reorganizing General Electric and US Steel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5" descr="jp-morgan1"/>
          <p:cNvPicPr/>
          <p:nvPr/>
        </p:nvPicPr>
        <p:blipFill>
          <a:blip r:embed="rId1"/>
          <a:stretch/>
        </p:blipFill>
        <p:spPr>
          <a:xfrm>
            <a:off x="990720" y="1905120"/>
            <a:ext cx="2447640" cy="3962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>
            <a:hlinkClick r:id="rId2" action="ppaction://hlinksldjump"/>
          </p:cNvPr>
          <p:cNvSpPr/>
          <p:nvPr/>
        </p:nvSpPr>
        <p:spPr>
          <a:xfrm>
            <a:off x="83808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Back to Money 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ohn D. Rockefeller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43400" y="1752480"/>
            <a:ext cx="4224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d profits from his refineries to buy up other oil compan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ashed his prices enough to force other companies out of busin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ed the Standard Oil Trust and controlled 95% of the indust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john_rockefeller"/>
          <p:cNvPicPr/>
          <p:nvPr/>
        </p:nvPicPr>
        <p:blipFill>
          <a:blip r:embed="rId1"/>
          <a:stretch/>
        </p:blipFill>
        <p:spPr>
          <a:xfrm>
            <a:off x="533520" y="1828800"/>
            <a:ext cx="3333600" cy="42861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>
            <a:hlinkClick r:id="rId2" action="ppaction://hlinksldjump"/>
          </p:cNvPr>
          <p:cNvSpPr/>
          <p:nvPr/>
        </p:nvSpPr>
        <p:spPr>
          <a:xfrm>
            <a:off x="762120" y="6248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Back to Money 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do you think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good things do you think these men could have brought to the lives of workers in the U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bad things do you think these men could have brought to the lives of workers in the U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>
            <a:hlinkClick r:id="rId1" action="ppaction://hlinksldjump"/>
          </p:cNvPr>
          <p:cNvSpPr/>
          <p:nvPr/>
        </p:nvSpPr>
        <p:spPr>
          <a:xfrm>
            <a:off x="1523880" y="48769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Verdana"/>
              </a:rPr>
              <a:t>Good Guy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>
            <a:hlinkClick r:id="rId2" action="ppaction://hlinksldjump"/>
          </p:cNvPr>
          <p:cNvSpPr/>
          <p:nvPr/>
        </p:nvSpPr>
        <p:spPr>
          <a:xfrm>
            <a:off x="5105520" y="48769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Verdana"/>
              </a:rPr>
              <a:t>Bad Guy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6">
            <a:hlinkClick r:id="" action="ppaction://hlinkshowjump?jump=lastslide"/>
          </p:cNvPr>
          <p:cNvSpPr/>
          <p:nvPr/>
        </p:nvSpPr>
        <p:spPr>
          <a:xfrm>
            <a:off x="1447920" y="6324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Verdana"/>
              </a:rPr>
              <a:t>Explored both sides of the argument? Click Her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muel Mor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919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legraph (1837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nes – RR= commun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870= Western Union Telegraph C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5" descr="image001"/>
          <p:cNvPicPr/>
          <p:nvPr/>
        </p:nvPicPr>
        <p:blipFill>
          <a:blip r:embed="rId1"/>
          <a:stretch/>
        </p:blipFill>
        <p:spPr>
          <a:xfrm>
            <a:off x="609480" y="1828800"/>
            <a:ext cx="3741840" cy="4191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>
            <a:hlinkClick r:id="rId2" action="ppaction://hlinksldjump"/>
          </p:cNvPr>
          <p:cNvSpPr/>
          <p:nvPr/>
        </p:nvSpPr>
        <p:spPr>
          <a:xfrm>
            <a:off x="106668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Back to Money 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98"/>
                            </p:stCondLst>
                            <p:childTnLst>
                              <p:par>
                                <p:cTn id="1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4:49:11Z</dcterms:created>
  <dc:creator>nccvt</dc:creator>
  <dc:description/>
  <dc:language>en-US</dc:language>
  <cp:lastModifiedBy>Sacerdote, Kevin R.</cp:lastModifiedBy>
  <dcterms:modified xsi:type="dcterms:W3CDTF">2015-09-29T11:54:56Z</dcterms:modified>
  <cp:revision>14</cp:revision>
  <dc:subject/>
  <dc:title>Captains of Industry or Robber Barons?</dc:title>
</cp:coreProperties>
</file>